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1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BBE5-DC17-44F0-9BCD-454F2FF6C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0452-1CBE-4E4A-AA43-8CB1C0965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346B-3F42-49DD-BFB6-F03AC1394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DFD3-1420-421F-9361-287E7F236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0BD4-57C2-4598-9CB1-6A2FDFF33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EAFC-208F-4069-8F57-61B344ABC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7BA5-9859-4CB3-AA2C-7700978DA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45B0-2FED-40EE-AF26-AEEBFEB8A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14A1-1500-4CB5-A209-DCC997984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FC26-5058-4037-B68F-269925D26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37A8-BD1C-4B5F-8F02-1778F99AF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3FE9-D163-4926-88D4-4A2CFF075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93397-2D24-4743-9B8A-98D29F85CD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cc"/>
                </a:solidFill>
                <a:latin typeface="Times New Roman"/>
              </a:rPr>
              <a:t>Мое любимое число - 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Подготовила проект ученица 1 «к» класса МОУ гимназия № 3 г. Краснода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Перерва  Викто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                                      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Учитель Мишкова Е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6" dur="2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imes New Roman"/>
              </a:rPr>
              <a:t>Семь чудес све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541188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лосс Родос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5"/>
          <p:cNvPicPr/>
          <p:nvPr/>
        </p:nvPicPr>
        <p:blipFill>
          <a:blip r:embed="rId1"/>
          <a:stretch/>
        </p:blipFill>
        <p:spPr>
          <a:xfrm>
            <a:off x="2362320" y="1523880"/>
            <a:ext cx="40384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imes New Roman"/>
              </a:rPr>
              <a:t>Семь чудес све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54860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лександрийский мая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2438280" y="1523880"/>
            <a:ext cx="35816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imes New Roman"/>
              </a:rPr>
              <a:t>Семь чудес Росс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54860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зеро Байк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4" descr="Файл:Шаманка.jpg"/>
          <p:cNvPicPr/>
          <p:nvPr/>
        </p:nvPicPr>
        <p:blipFill>
          <a:blip r:embed="rId1"/>
          <a:stretch/>
        </p:blipFill>
        <p:spPr>
          <a:xfrm>
            <a:off x="1905120" y="1447920"/>
            <a:ext cx="5410080" cy="36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Прямоугольник 1"/>
          <p:cNvSpPr/>
          <p:nvPr/>
        </p:nvSpPr>
        <p:spPr>
          <a:xfrm>
            <a:off x="762120" y="1143000"/>
            <a:ext cx="8076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Озеро Байкал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является самым древним и глубоким озером в мир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Его глубина достигает 1637 метр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зеро занимает более 23 тыс. кв. км, что составляет около 22% запасов всей пресной воды земного шар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1" descr="http://upload.wikimedia.org/wikipedia/commons/0/04/Valley_of_the_Geysers.jpg"/>
          <p:cNvPicPr/>
          <p:nvPr/>
        </p:nvPicPr>
        <p:blipFill>
          <a:blip r:embed="rId1"/>
          <a:stretch/>
        </p:blipFill>
        <p:spPr>
          <a:xfrm>
            <a:off x="1600200" y="1219320"/>
            <a:ext cx="6454800" cy="367812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2"/>
          <p:cNvSpPr/>
          <p:nvPr/>
        </p:nvSpPr>
        <p:spPr>
          <a:xfrm>
            <a:off x="1523880" y="228600"/>
            <a:ext cx="647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imes New Roman"/>
              </a:rPr>
              <a:t>Семь чудес Росс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380880" y="548640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лина гейзе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1"/>
          <p:cNvSpPr/>
          <p:nvPr/>
        </p:nvSpPr>
        <p:spPr>
          <a:xfrm>
            <a:off x="457200" y="7621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Долине гейзеров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 Камчатке действует более 200 термальных источников, в том числе около 90 гейзеров, которые выбрасывают струи кипящей воды и пара на десятки метров в высоту. Температура почвы на глубине 1 метр, вблизи гейзеров достигает 70 градусов по Цельсию.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Семь чудес Росси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2" descr="http://upload.wikimedia.org/wikipedia/ru/archive/a/af/20080613085535%21%D0%A1%D1%82%D0%BE%D0%BB%D0%B1%D1%8B_%D0%B2%D1%8B%D0%B2%D0%B5%D1%82%D1%80%D0%B8%D0%B2%D0%B0%D0%BD%D0%B8%D1%8F.jpg"/>
          <p:cNvPicPr/>
          <p:nvPr/>
        </p:nvPicPr>
        <p:blipFill>
          <a:blip r:embed="rId1"/>
          <a:stretch/>
        </p:blipFill>
        <p:spPr>
          <a:xfrm>
            <a:off x="2133720" y="1600200"/>
            <a:ext cx="5387760" cy="355140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4"/>
          <p:cNvSpPr/>
          <p:nvPr/>
        </p:nvSpPr>
        <p:spPr>
          <a:xfrm>
            <a:off x="762120" y="5181480"/>
            <a:ext cx="693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родный памятник «Столбы выветривания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риродный памятник «Столбы выветривания»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положен на территории Троицко-Печорского района Коми, в междуречье Ичотляги и Печоры. Высота столбов достигает 42 метров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Семь чудес Росси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Содержимое 3" descr="Файл:Эльбрус.jpg"/>
          <p:cNvPicPr/>
          <p:nvPr/>
        </p:nvPicPr>
        <p:blipFill>
          <a:blip r:embed="rId1"/>
          <a:stretch/>
        </p:blipFill>
        <p:spPr>
          <a:xfrm>
            <a:off x="380880" y="1600200"/>
            <a:ext cx="7620120" cy="350532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4"/>
          <p:cNvSpPr/>
          <p:nvPr/>
        </p:nvSpPr>
        <p:spPr>
          <a:xfrm>
            <a:off x="609480" y="5460840"/>
            <a:ext cx="514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ра Эльбру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сочайшая вершина Европы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гора Эльбрус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полагается на границе Кабардино-Балкарии и Карачаево-Черкесии. Западная вершина Эльбруса возвышается над уровнем моря на 5642 метра, восточная – на 5621 метров. Эльбрус знаменит своими огромными ледниками, площадь которых составляет 144 кв. километр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Таинственное число семь! Каким его только не считают: и священным, и божественным, и магическим, и счастливым. Так относятся к нему англичане, французы, итальянцы, русские, почитают его индусы, арабы, турки и другие народы. Почитали  много столетий до нашей эры, в средние века, почитают и сегодня. Число семь играет важную роль в религиях и верованиях людей, в искусстве и языке, в науке и техник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indefinite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Семь чудес Росс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2" descr="Файл:Voldograd City (Den).jpg"/>
          <p:cNvPicPr/>
          <p:nvPr/>
        </p:nvPicPr>
        <p:blipFill>
          <a:blip r:embed="rId1"/>
          <a:stretch/>
        </p:blipFill>
        <p:spPr>
          <a:xfrm>
            <a:off x="1752480" y="1981080"/>
            <a:ext cx="5105520" cy="289584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3"/>
          <p:cNvSpPr/>
          <p:nvPr/>
        </p:nvSpPr>
        <p:spPr>
          <a:xfrm>
            <a:off x="0" y="547524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маев курган и статуя Родины-Матер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1"/>
          <p:cNvSpPr/>
          <p:nvPr/>
        </p:nvSpPr>
        <p:spPr>
          <a:xfrm>
            <a:off x="1066680" y="762120"/>
            <a:ext cx="7239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Мамаев курган и статуя Родины-Матери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Волгограде созданы в память о решающем сражении в ходе Великой Отечественной войны – Сталинградской битв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Семь чудес Росси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2" descr="http://upload.wikimedia.org/wikipedia/ru/e/ef/%D0%9F%D0%B5%D1%82%D0%B5%D1%80%D0%B3%D0%BE%D1%84.JPG"/>
          <p:cNvPicPr/>
          <p:nvPr/>
        </p:nvPicPr>
        <p:blipFill>
          <a:blip r:embed="rId1"/>
          <a:stretch/>
        </p:blipFill>
        <p:spPr>
          <a:xfrm>
            <a:off x="457200" y="1371600"/>
            <a:ext cx="8077320" cy="348624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3"/>
          <p:cNvSpPr/>
          <p:nvPr/>
        </p:nvSpPr>
        <p:spPr>
          <a:xfrm>
            <a:off x="609480" y="5460840"/>
            <a:ext cx="556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терго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2"/>
          <p:cNvSpPr/>
          <p:nvPr/>
        </p:nvSpPr>
        <p:spPr>
          <a:xfrm>
            <a:off x="685800" y="1295280"/>
            <a:ext cx="7772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Петергоф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Санкт-Петербурге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известен своим красивым парком, тремя каскадами и 150 фонтанами.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Семь чудес Росси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579132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бор Василия Блажен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Содержимое 4" descr="Файл:Moscow, St. Basil's As Seen From The West.jpg"/>
          <p:cNvPicPr/>
          <p:nvPr/>
        </p:nvPicPr>
        <p:blipFill>
          <a:blip r:embed="rId1"/>
          <a:stretch/>
        </p:blipFill>
        <p:spPr>
          <a:xfrm>
            <a:off x="1905120" y="1143000"/>
            <a:ext cx="56386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"/>
          <p:cNvSpPr/>
          <p:nvPr/>
        </p:nvSpPr>
        <p:spPr>
          <a:xfrm>
            <a:off x="609480" y="762120"/>
            <a:ext cx="8001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обор Василия Блаженного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положен в самом центре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Москв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является не только главным храмом Красной площади, но и символом всей России. Он построен в 1555–1561 годах по указу Ивана Грозного в честь взятия Казанского ханства. Собор представляет собой симметричный ансамбль из восьми церквей, окружающих центральную церковь, увенчанную «шатром»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imes New Roman"/>
              </a:rPr>
              <a:t>Семь дней недел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недель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тор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е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твер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ятн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уб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                              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Воскресень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imes New Roman"/>
              </a:rPr>
              <a:t>Семь цветов радуг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Каждый </a:t>
            </a:r>
            <a:br>
              <a:rPr sz="2800"/>
            </a:b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Охотник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Желает </a:t>
            </a:r>
            <a:br>
              <a:rPr sz="2800"/>
            </a:b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Знать </a:t>
            </a:r>
            <a:br>
              <a:rPr sz="2800"/>
            </a:b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Где </a:t>
            </a:r>
            <a:br>
              <a:rPr sz="2800"/>
            </a:b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Сиди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Фаза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 если сложить все эти цвета, то получится вот такая разноцветна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У 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6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2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2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2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imes New Roman"/>
              </a:rPr>
              <a:t>Семь цветов радуг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5"/>
          <p:cNvSpPr/>
          <p:nvPr/>
        </p:nvSpPr>
        <p:spPr>
          <a:xfrm>
            <a:off x="762120" y="2819520"/>
            <a:ext cx="6629400" cy="1676160"/>
          </a:xfrm>
          <a:prstGeom prst="pi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8"/>
          <p:cNvSpPr/>
          <p:nvPr/>
        </p:nvSpPr>
        <p:spPr>
          <a:xfrm>
            <a:off x="838080" y="3200400"/>
            <a:ext cx="6629400" cy="1676520"/>
          </a:xfrm>
          <a:prstGeom prst="pi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9"/>
          <p:cNvSpPr/>
          <p:nvPr/>
        </p:nvSpPr>
        <p:spPr>
          <a:xfrm>
            <a:off x="762120" y="3581280"/>
            <a:ext cx="6629400" cy="1676520"/>
          </a:xfrm>
          <a:prstGeom prst="pi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0"/>
          <p:cNvSpPr/>
          <p:nvPr/>
        </p:nvSpPr>
        <p:spPr>
          <a:xfrm>
            <a:off x="685800" y="3962520"/>
            <a:ext cx="6629400" cy="167616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11"/>
          <p:cNvSpPr/>
          <p:nvPr/>
        </p:nvSpPr>
        <p:spPr>
          <a:xfrm>
            <a:off x="685800" y="4267080"/>
            <a:ext cx="6629400" cy="167652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2"/>
          <p:cNvSpPr/>
          <p:nvPr/>
        </p:nvSpPr>
        <p:spPr>
          <a:xfrm>
            <a:off x="762120" y="4648320"/>
            <a:ext cx="6629400" cy="1676160"/>
          </a:xfrm>
          <a:prstGeom prst="pi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3"/>
          <p:cNvSpPr/>
          <p:nvPr/>
        </p:nvSpPr>
        <p:spPr>
          <a:xfrm>
            <a:off x="762120" y="4952880"/>
            <a:ext cx="6629400" cy="17528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imes New Roman"/>
              </a:rPr>
              <a:t>Семь но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20006td"/>
          <p:cNvPicPr/>
          <p:nvPr/>
        </p:nvPicPr>
        <p:blipFill>
          <a:blip r:embed="rId1"/>
          <a:stretch/>
        </p:blipFill>
        <p:spPr>
          <a:xfrm>
            <a:off x="838080" y="2819520"/>
            <a:ext cx="762012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Возможно, это объяснялось еще и тем, что человек воспринимает окружающий мир (свет, звуки, запахи, вкус) через семь «отверстий» в голове (два глаза, два уха, две ноздри, рот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imes New Roman"/>
              </a:rPr>
              <a:t>Поговорки и пословиц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7 лет не виделись, а сошлись - и говорить неч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е строй 7 церквей, пристрой 7 детей (сирот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7 раз по – твоему, а хоть раз по – мое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7 одну соломинку поднимаю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сякая беда по 7 бед рожа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7 генералов, да 1 рядов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7 не один, в беду не дад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7 дел в одни руки не беру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1" dur="3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5" dur="3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9" dur="3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3" dur="3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7" dur="3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1" dur="3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5" dur="3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9" dur="3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imes New Roman"/>
              </a:rPr>
              <a:t>Поговорки и пословиц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7 с ложкой, а 1 с сош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У 7 нянек дитя без глаз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7 деревень, а лошадка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ам  не дерусь, 7 бою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7 одного не ждут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7 верст до небе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7 бед – 1 отв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Лук от 7 неду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За 7 мор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1" dur="3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5" dur="3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9" dur="3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3" dur="3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7" dur="3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1" dur="3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5" dur="3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9" dur="30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3" dur="30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imes New Roman"/>
              </a:rPr>
              <a:t>Число 7 в сказках, мифа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«Волк и семеро козлят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«О мёртвой царевне и о семи богатырях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«Белоснежка и семь гномов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«Семь Семионов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«Путешествие за семь морей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imes New Roman"/>
              </a:rPr>
              <a:t>Число 7 в религ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 Вавилонян подземное царство окружено семью стена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 мусульман небесный свод состоит из семи небес, и все угодные Богу попадают на седьмое небо блажен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 индусов есть обычай дарить на счастье семь слоник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еликий пост у христиан длится семь недел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Библии повествуется о семи светильниках, семи ангелах, о семи годах изобилия и семи - гол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9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4" dur="2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9" dur="2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4" dur="2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9" dur="2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imes New Roman"/>
              </a:rPr>
              <a:t>Отгадай-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ff0000"/>
                </a:solidFill>
                <a:latin typeface="Times New Roman"/>
              </a:rPr>
              <a:t>7 я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cc"/>
                </a:solidFill>
                <a:latin typeface="Times New Roman"/>
              </a:rPr>
              <a:t>(Семья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2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2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imes New Roman"/>
              </a:rPr>
              <a:t>Семь смертных грех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cc"/>
                </a:solidFill>
                <a:latin typeface="Times New Roman"/>
              </a:rPr>
              <a:t>       </a:t>
            </a:r>
            <a:r>
              <a:rPr b="0" lang="ru-RU" sz="3600" spc="-1" strike="noStrike">
                <a:solidFill>
                  <a:srgbClr val="cc00cc"/>
                </a:solidFill>
                <a:latin typeface="Times New Roman"/>
              </a:rPr>
              <a:t>высокомер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cc"/>
                </a:solidFill>
                <a:latin typeface="Times New Roman"/>
              </a:rPr>
              <a:t>              </a:t>
            </a:r>
            <a:r>
              <a:rPr b="0" lang="ru-RU" sz="3600" spc="-1" strike="noStrike">
                <a:solidFill>
                  <a:srgbClr val="cc00cc"/>
                </a:solidFill>
                <a:latin typeface="Times New Roman"/>
              </a:rPr>
              <a:t>скупос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cc"/>
                </a:solidFill>
                <a:latin typeface="Times New Roman"/>
              </a:rPr>
              <a:t>                    </a:t>
            </a:r>
            <a:r>
              <a:rPr b="0" lang="ru-RU" sz="3600" spc="-1" strike="noStrike">
                <a:solidFill>
                  <a:srgbClr val="cc00cc"/>
                </a:solidFill>
                <a:latin typeface="Times New Roman"/>
              </a:rPr>
              <a:t>сладостраст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cc"/>
                </a:solidFill>
                <a:latin typeface="Times New Roman"/>
              </a:rPr>
              <a:t>                          </a:t>
            </a:r>
            <a:r>
              <a:rPr b="0" lang="ru-RU" sz="3600" spc="-1" strike="noStrike">
                <a:solidFill>
                  <a:srgbClr val="cc00cc"/>
                </a:solidFill>
                <a:latin typeface="Times New Roman"/>
              </a:rPr>
              <a:t>зави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cc"/>
                </a:solidFill>
                <a:latin typeface="Times New Roman"/>
              </a:rPr>
              <a:t>                                </a:t>
            </a:r>
            <a:r>
              <a:rPr b="0" lang="ru-RU" sz="3600" spc="-1" strike="noStrike">
                <a:solidFill>
                  <a:srgbClr val="cc00cc"/>
                </a:solidFill>
                <a:latin typeface="Times New Roman"/>
              </a:rPr>
              <a:t>чревоугод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cc"/>
                </a:solidFill>
                <a:latin typeface="Times New Roman"/>
              </a:rPr>
              <a:t>                                      </a:t>
            </a:r>
            <a:r>
              <a:rPr b="0" lang="ru-RU" sz="3600" spc="-1" strike="noStrike">
                <a:solidFill>
                  <a:srgbClr val="cc00cc"/>
                </a:solidFill>
                <a:latin typeface="Times New Roman"/>
              </a:rPr>
              <a:t>ярос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cc"/>
                </a:solidFill>
                <a:latin typeface="Times New Roman"/>
              </a:rPr>
              <a:t>                                            </a:t>
            </a:r>
            <a:r>
              <a:rPr b="0" lang="ru-RU" sz="3600" spc="-1" strike="noStrike">
                <a:solidFill>
                  <a:srgbClr val="cc00cc"/>
                </a:solidFill>
                <a:latin typeface="Times New Roman"/>
              </a:rPr>
              <a:t>ле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imes New Roman"/>
              </a:rPr>
              <a:t>Семь чудес све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55638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гипетские пирами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2" descr="6"/>
          <p:cNvPicPr/>
          <p:nvPr/>
        </p:nvPicPr>
        <p:blipFill>
          <a:blip r:embed="rId1"/>
          <a:stretch/>
        </p:blipFill>
        <p:spPr>
          <a:xfrm>
            <a:off x="1752480" y="1523880"/>
            <a:ext cx="541044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imes New Roman"/>
              </a:rPr>
              <a:t>Семь чудес све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55638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сячие сады Семирами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1"/>
          <p:cNvPicPr/>
          <p:nvPr/>
        </p:nvPicPr>
        <p:blipFill>
          <a:blip r:embed="rId1"/>
          <a:stretch/>
        </p:blipFill>
        <p:spPr>
          <a:xfrm>
            <a:off x="2286000" y="1447920"/>
            <a:ext cx="44956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imes New Roman"/>
              </a:rPr>
              <a:t>Семь чудес све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4910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рам Артемиды Эфесс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3"/>
          <p:cNvPicPr/>
          <p:nvPr/>
        </p:nvPicPr>
        <p:blipFill>
          <a:blip r:embed="rId1"/>
          <a:stretch/>
        </p:blipFill>
        <p:spPr>
          <a:xfrm>
            <a:off x="2362320" y="1676520"/>
            <a:ext cx="480060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imes New Roman"/>
              </a:rPr>
              <a:t>Семь чудес све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57909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атуя Зевса Олимпийск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4"/>
          <p:cNvPicPr/>
          <p:nvPr/>
        </p:nvPicPr>
        <p:blipFill>
          <a:blip r:embed="rId1"/>
          <a:stretch/>
        </p:blipFill>
        <p:spPr>
          <a:xfrm>
            <a:off x="1981080" y="1447920"/>
            <a:ext cx="48006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imes New Roman"/>
              </a:rPr>
              <a:t>Семь чудес све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аликарнасский Мавзо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7"/>
          <p:cNvPicPr/>
          <p:nvPr/>
        </p:nvPicPr>
        <p:blipFill>
          <a:blip r:embed="rId1"/>
          <a:stretch/>
        </p:blipFill>
        <p:spPr>
          <a:xfrm>
            <a:off x="1752480" y="1447920"/>
            <a:ext cx="54864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1-29T06:33:57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